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91D5-1DDD-4F19-AED4-11E8598BA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42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0000" y="1600200"/>
            <a:ext cx="742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60000" y="3964320"/>
            <a:ext cx="742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0AA9-4117-472B-BA84-3A337BE9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42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0000" y="1600200"/>
            <a:ext cx="36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5200" y="1600200"/>
            <a:ext cx="36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60000" y="3964320"/>
            <a:ext cx="36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5200" y="3964320"/>
            <a:ext cx="36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8396-FA7E-4D1D-8451-5AA5D7106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42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60000" y="1600200"/>
            <a:ext cx="239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39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82000" y="1600200"/>
            <a:ext cx="239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60000" y="3964320"/>
            <a:ext cx="239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771000" y="3964320"/>
            <a:ext cx="239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82000" y="3964320"/>
            <a:ext cx="239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80EE-4FF7-4696-88E4-07D8CD702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7006-0F15-4CA0-9768-A70324CAF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42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60000" y="1600200"/>
            <a:ext cx="7426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4051-80B9-4DEB-848A-A4017790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42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0000" y="1600200"/>
            <a:ext cx="742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ADE84-714A-4773-BD41-EB5D38C3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42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60000" y="1600200"/>
            <a:ext cx="362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5200" y="1600200"/>
            <a:ext cx="362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FE58-DB7A-4BEC-8396-92A86DC6D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42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A0BD-FA76-4696-8FF6-AC126414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260000" y="274320"/>
            <a:ext cx="742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9ADA9-CBA4-4B42-B58C-3CD65ABF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42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0000" y="1600200"/>
            <a:ext cx="36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65200" y="1600200"/>
            <a:ext cx="362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0000" y="3964320"/>
            <a:ext cx="36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8FA1-DE47-437F-A63D-D614D936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42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60000" y="1600200"/>
            <a:ext cx="74264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A86A-C09A-4878-A046-D3B5D6FCE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42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0000" y="1600200"/>
            <a:ext cx="362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65200" y="1600200"/>
            <a:ext cx="36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65200" y="3964320"/>
            <a:ext cx="36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C951-56D1-4116-88A2-93B8281A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42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60000" y="1600200"/>
            <a:ext cx="36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65200" y="1600200"/>
            <a:ext cx="36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60000" y="3964320"/>
            <a:ext cx="742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593B9-2C7E-4F31-A3AA-BDBEBEF1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42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0000" y="1600200"/>
            <a:ext cx="742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60000" y="3964320"/>
            <a:ext cx="742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F341-2213-4F93-8D9E-6AB0FECDF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42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60000" y="1600200"/>
            <a:ext cx="36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5200" y="1600200"/>
            <a:ext cx="36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60000" y="3964320"/>
            <a:ext cx="36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65200" y="3964320"/>
            <a:ext cx="36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47CE-40D9-45DB-BD45-6C340B79C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42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60000" y="1600200"/>
            <a:ext cx="239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71000" y="1600200"/>
            <a:ext cx="239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82000" y="1600200"/>
            <a:ext cx="239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60000" y="3964320"/>
            <a:ext cx="239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71000" y="3964320"/>
            <a:ext cx="239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82000" y="3964320"/>
            <a:ext cx="2391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3F990-91E4-4E8C-9B42-392CA6368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42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60000" y="1600200"/>
            <a:ext cx="742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045D-729C-4608-A65A-82CC85B8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42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60000" y="1600200"/>
            <a:ext cx="362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5200" y="1600200"/>
            <a:ext cx="362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FDFE-B48A-4FDD-97CE-262563C7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42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CADB-EDFF-442E-B308-19491907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60000" y="274320"/>
            <a:ext cx="7426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CD26-1B15-4416-ACCC-056A8A60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42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0000" y="1600200"/>
            <a:ext cx="36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5200" y="1600200"/>
            <a:ext cx="362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60000" y="3964320"/>
            <a:ext cx="36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650D-C72B-46AE-B89E-985C26DF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42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0000" y="1600200"/>
            <a:ext cx="3623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5200" y="1600200"/>
            <a:ext cx="36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5200" y="3964320"/>
            <a:ext cx="36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4F76-BF92-4148-A2C0-43AAF066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42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0000" y="1600200"/>
            <a:ext cx="36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5200" y="1600200"/>
            <a:ext cx="36237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60000" y="3964320"/>
            <a:ext cx="7426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1C07-0E69-4772-BE14-EDCD6F0E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green"/>
          <p:cNvPicPr/>
          <p:nvPr/>
        </p:nvPicPr>
        <p:blipFill>
          <a:blip r:embed="rId2"/>
          <a:srcRect l="26316" t="0" r="0" b="0"/>
          <a:stretch/>
        </p:blipFill>
        <p:spPr>
          <a:xfrm>
            <a:off x="0" y="0"/>
            <a:ext cx="7040520" cy="6886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42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60000" y="1600200"/>
            <a:ext cx="742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58E59-4133-46BA-AA0D-3018A1E997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green1"/>
          <p:cNvPicPr/>
          <p:nvPr/>
        </p:nvPicPr>
        <p:blipFill>
          <a:blip r:embed="rId2"/>
          <a:srcRect l="3510" t="0" r="0" b="0"/>
          <a:stretch/>
        </p:blipFill>
        <p:spPr>
          <a:xfrm>
            <a:off x="9360" y="0"/>
            <a:ext cx="91839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42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60000" y="1600200"/>
            <a:ext cx="742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6BDD-E8DC-4189-9534-67043CA20E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15640" y="2133720"/>
            <a:ext cx="6621480" cy="97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Формирование естественно-научной грамотности младших школьников через проектно-исследовательскую деятель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412720" y="3141360"/>
            <a:ext cx="532116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офронова Ирина Андреев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БОУ СОШ с УИ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68000" y="836640"/>
            <a:ext cx="86756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«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ои ученики будут узнавать нов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е от мен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ни будут открывать это новое с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оя задача – помочь им раскры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 развить собственные иде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И.Г.Песталоц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42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ктуальнос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260000" y="1600200"/>
            <a:ext cx="742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жной характеристикой уровня образования общества и его готовности к инновациям является естественнонаучная грамот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естественнонаучной грамотности учащихся начальной школы во многом совпадает с задачей реализации требований ФГОС к результатам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5160" y="290520"/>
            <a:ext cx="8675640" cy="609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оектно-исследовательская деятельность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ет условия для развития познавательной активности обучающихся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реализации их творческих и интеллектуальных  способностей, формирует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требност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ься на протяжени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й жизни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обретать опыт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ой деятельност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зличных сферах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3" descr=""/>
          <p:cNvPicPr/>
          <p:nvPr/>
        </p:nvPicPr>
        <p:blipFill>
          <a:blip r:embed="rId1"/>
          <a:stretch/>
        </p:blipFill>
        <p:spPr>
          <a:xfrm>
            <a:off x="5148360" y="2492280"/>
            <a:ext cx="289548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371600" y="980640"/>
            <a:ext cx="7772400" cy="648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Цель проектной деятельност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онимание и применение знаний, умений и навыков, приобретенных при изучении различных предме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дачи проектной деятель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учение планированию, целеполаганию, контролю достижения ц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навыка сбора и обработки информ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оставлять письменный отч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позитивного отношения к раб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7426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186920" y="1450440"/>
            <a:ext cx="74264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C:\Users\Ирина\Downloads\infographic-with-6-steps-process-or-options-png.png"/>
          <p:cNvPicPr/>
          <p:nvPr/>
        </p:nvPicPr>
        <p:blipFill>
          <a:blip r:embed="rId1"/>
          <a:stretch/>
        </p:blipFill>
        <p:spPr>
          <a:xfrm>
            <a:off x="-900000" y="-25560"/>
            <a:ext cx="10872720" cy="7248600"/>
          </a:xfrm>
          <a:prstGeom prst="rect">
            <a:avLst/>
          </a:prstGeom>
          <a:ln w="0">
            <a:noFill/>
          </a:ln>
        </p:spPr>
      </p:pic>
      <p:sp>
        <p:nvSpPr>
          <p:cNvPr id="94" name="TextBox 1"/>
          <p:cNvSpPr/>
          <p:nvPr/>
        </p:nvSpPr>
        <p:spPr>
          <a:xfrm>
            <a:off x="967680" y="1268280"/>
            <a:ext cx="181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Моделиров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ситуаци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описы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"/>
          <p:cNvSpPr/>
          <p:nvPr/>
        </p:nvSpPr>
        <p:spPr>
          <a:xfrm>
            <a:off x="92160" y="3137040"/>
            <a:ext cx="201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Научно объясня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явления 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процес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826920" y="5157720"/>
            <a:ext cx="180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宋体"/>
              </a:rPr>
              <a:t>Делать оценку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6951600" y="3137040"/>
            <a:ext cx="21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Обладать навы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безопас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пове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6515640" y="1438200"/>
            <a:ext cx="164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Уметь став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ц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6381000" y="515160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Уметь выдвига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гипоте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 rot="10800000">
            <a:off x="1042200" y="142560"/>
            <a:ext cx="742644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60000" y="260280"/>
            <a:ext cx="74264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ор 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ор учащегося для этой 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ение цели, составление плана действ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следовательская раб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троль с моей стороны за продвижением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суждение результа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бор названия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е для учащегося по теоритической части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сание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над текстом учащегося для выступ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1260000" y="1600200"/>
            <a:ext cx="742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над презентацией для выступ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над выступлением учащего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тупление на школьной конферен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тупление на районной конференции «Я-исследователь», «Экологическая конференция школьников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тупление на всероссийских конференц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42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60000" y="1600200"/>
            <a:ext cx="7426440" cy="45259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C:\Users\Ирина\Downloads\1770821002398.jpg"/>
          <p:cNvPicPr/>
          <p:nvPr/>
        </p:nvPicPr>
        <p:blipFill>
          <a:blip r:embed="rId2"/>
          <a:stretch/>
        </p:blipFill>
        <p:spPr>
          <a:xfrm>
            <a:off x="0" y="115920"/>
            <a:ext cx="921060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0000" y="274320"/>
            <a:ext cx="7426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33480" y="0"/>
            <a:ext cx="9110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6T17:14:14Z</dcterms:created>
  <dc:creator/>
  <dc:description/>
  <cp:keywords/>
  <dc:language>en-US</dc:language>
  <cp:lastModifiedBy>RePack by Diakov</cp:lastModifiedBy>
  <cp:lastPrinted>1899-12-30T00:00:00Z</cp:lastPrinted>
  <dcterms:modified xsi:type="dcterms:W3CDTF">2026-02-12T15:00:36Z</dcterms:modified>
  <cp:revision>9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