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A1A-F1F5-4AEF-921C-622CC3D9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0FD-A4FE-4389-84DD-27E69683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C74-B037-4DB8-BF20-756C8F80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327-2507-411C-A04F-901F891A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43E-C586-4CCB-8A10-651F445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CD1-0126-4B71-B09B-3F67EAAD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45A-CB86-49DE-8996-DBD623BA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00F-41CA-4055-A5E7-6764E654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04B-0B81-4A73-B230-F2A78711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FCB-8B3B-49D5-8293-9C1E2557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9D4-2AAC-4458-80DB-8D19519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8C8-B3F5-45B3-B7A1-3D6CF35E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0F73-E84E-440A-AB6D-607F581D32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F1F3-6790-4400-AC51-D7DFE4865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-38160" y="0"/>
            <a:ext cx="1226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3395520" y="1762200"/>
            <a:ext cx="8418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What music genre do you pref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Does your mood depend on the music you listen to or not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Who is your favourite musician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ave your music tastes changed over the years? 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Do you prefer listening to songs in your own language or in another language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27702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skr.sh/i/260122/CRYOquBe.png?download=1&amp;name=%D0%A1%D0%BA%D1%80%D0%B8%D0%BD%D1%88%D0%BE%D1%82%2026-01-2022%2015:28:56.png"/>
          <p:cNvPicPr/>
          <p:nvPr/>
        </p:nvPicPr>
        <p:blipFill>
          <a:blip r:embed="rId1"/>
          <a:stretch/>
        </p:blipFill>
        <p:spPr>
          <a:xfrm>
            <a:off x="17640" y="103320"/>
            <a:ext cx="1217448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06 - Unit 5b. Ex. 8, p. 77" descr=""/>
          <p:cNvPicPr/>
          <p:nvPr/>
        </p:nvPicPr>
        <p:blipFill>
          <a:blip r:embed="rId2"/>
          <a:stretch/>
        </p:blipFill>
        <p:spPr>
          <a:xfrm>
            <a:off x="10198080" y="3643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45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1189080" y="100080"/>
            <a:ext cx="9829800" cy="66657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ая соединительная линия 2"/>
          <p:cNvSpPr/>
          <p:nvPr/>
        </p:nvSpPr>
        <p:spPr>
          <a:xfrm>
            <a:off x="9024840" y="1189080"/>
            <a:ext cx="1911600" cy="1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5"/>
          <p:cNvSpPr/>
          <p:nvPr/>
        </p:nvSpPr>
        <p:spPr>
          <a:xfrm flipV="1">
            <a:off x="1463760" y="1517760"/>
            <a:ext cx="2870280" cy="9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ая соединительная линия 7"/>
          <p:cNvSpPr/>
          <p:nvPr/>
        </p:nvSpPr>
        <p:spPr>
          <a:xfrm>
            <a:off x="8879040" y="1508040"/>
            <a:ext cx="1344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9"/>
          <p:cNvSpPr/>
          <p:nvPr/>
        </p:nvSpPr>
        <p:spPr>
          <a:xfrm flipV="1">
            <a:off x="2386080" y="2596680"/>
            <a:ext cx="3548160" cy="9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2"/>
          <p:cNvSpPr/>
          <p:nvPr/>
        </p:nvSpPr>
        <p:spPr>
          <a:xfrm flipV="1">
            <a:off x="4718160" y="2862360"/>
            <a:ext cx="3557520" cy="9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 flipV="1">
            <a:off x="4141800" y="4773600"/>
            <a:ext cx="2158920" cy="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2"/>
          <p:cNvSpPr/>
          <p:nvPr/>
        </p:nvSpPr>
        <p:spPr>
          <a:xfrm flipV="1">
            <a:off x="4334040" y="5595480"/>
            <a:ext cx="5403600" cy="1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2322360" y="6172200"/>
            <a:ext cx="1289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649520" y="1098720"/>
            <a:ext cx="609588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 be a vital par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 bring up tas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 form sb’s internal wor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rt reflects people’s ideas    and emo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 speak to one’s he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sterpie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 unite peop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 lift m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 appreciate, appreci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ut across all ba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1636560" y="128520"/>
            <a:ext cx="90838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Изображение 1" descr=""/>
          <p:cNvPicPr/>
          <p:nvPr/>
        </p:nvPicPr>
        <p:blipFill>
          <a:blip r:embed="rId1"/>
          <a:stretch/>
        </p:blipFill>
        <p:spPr>
          <a:xfrm>
            <a:off x="1017720" y="596880"/>
            <a:ext cx="100393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Изображение 1" descr=""/>
          <p:cNvPicPr/>
          <p:nvPr/>
        </p:nvPicPr>
        <p:blipFill>
          <a:blip r:embed="rId1"/>
          <a:stretch/>
        </p:blipFill>
        <p:spPr>
          <a:xfrm>
            <a:off x="609480" y="284040"/>
            <a:ext cx="8199720" cy="2563920"/>
          </a:xfrm>
          <a:prstGeom prst="rect">
            <a:avLst/>
          </a:prstGeom>
          <a:ln w="0">
            <a:noFill/>
          </a:ln>
        </p:spPr>
      </p:pic>
      <p:pic>
        <p:nvPicPr>
          <p:cNvPr id="59" name="Изображение 2" descr=""/>
          <p:cNvPicPr/>
          <p:nvPr/>
        </p:nvPicPr>
        <p:blipFill>
          <a:blip r:embed="rId2"/>
          <a:stretch/>
        </p:blipFill>
        <p:spPr>
          <a:xfrm>
            <a:off x="3757680" y="3564000"/>
            <a:ext cx="8434440" cy="2708280"/>
          </a:xfrm>
          <a:prstGeom prst="rect">
            <a:avLst/>
          </a:prstGeom>
          <a:ln w="0">
            <a:noFill/>
          </a:ln>
        </p:spPr>
      </p:pic>
      <p:pic>
        <p:nvPicPr>
          <p:cNvPr id="60" name="track_13" descr=""/>
          <p:cNvPicPr/>
          <p:nvPr/>
        </p:nvPicPr>
        <p:blipFill>
          <a:blip r:embed="rId3"/>
          <a:stretch/>
        </p:blipFill>
        <p:spPr>
          <a:xfrm>
            <a:off x="1730520" y="564660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61" name="Текстовое поле 4"/>
          <p:cNvSpPr/>
          <p:nvPr/>
        </p:nvSpPr>
        <p:spPr>
          <a:xfrm>
            <a:off x="1407960" y="3006720"/>
            <a:ext cx="52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rite out key words for each mono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498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243000" y="165240"/>
            <a:ext cx="9131040" cy="2388960"/>
          </a:xfrm>
          <a:prstGeom prst="rect">
            <a:avLst/>
          </a:prstGeom>
          <a:ln w="0">
            <a:noFill/>
          </a:ln>
        </p:spPr>
      </p:pic>
      <p:sp>
        <p:nvSpPr>
          <p:cNvPr id="63" name="Текстовое поле 2"/>
          <p:cNvSpPr/>
          <p:nvPr/>
        </p:nvSpPr>
        <p:spPr>
          <a:xfrm>
            <a:off x="2386080" y="3890880"/>
            <a:ext cx="93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 are going to give a talk about music. You will have to start in 1.5 minutes and speak for not more than 2 minutes (10-12 sentences). Remember to say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Текстовое поле 3"/>
          <p:cNvSpPr/>
          <p:nvPr/>
        </p:nvSpPr>
        <p:spPr>
          <a:xfrm>
            <a:off x="3048120" y="453564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What music genre do you pref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ow often do you go to concert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Do you prefer listening to songs in your own language or in another language? Wh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your attitude to listening to music as a way to spend your free tim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3-04T10:43:00Z</dcterms:created>
  <dc:creator>master</dc:creator>
  <dc:description/>
  <dc:language>en-US</dc:language>
  <cp:lastModifiedBy>master</cp:lastModifiedBy>
  <dcterms:modified xsi:type="dcterms:W3CDTF">2026-03-03T17:42:44Z</dcterms:modified>
  <cp:revision>11</cp:revision>
  <dc:subject/>
  <dc:title>Mus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FF62B36F4394020999335DB4B83EF7B_13</vt:lpwstr>
  </property>
  <property fmtid="{D5CDD505-2E9C-101B-9397-08002B2CF9AE}" pid="3" name="KSOProductBuildVer">
    <vt:lpwstr>1049-12.2.0.23196</vt:lpwstr>
  </property>
</Properties>
</file>